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5e647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f5e647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50DF-C2AF-42CB-B82F-8B0CEC52E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2C7F-4E45-4668-BBD5-91E15D40D64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endinizi tanıtın. Forum sürecine ilişkin kısa bilgi ver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FCEA-C967-41C4-BBD8-513EB36143A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tkinlik 1 Adım 1’deki etkinliği yaptırın. Katılımcıların bazılarına (istekliler kadar isteksizlere de söz hakkı verin ve deneyimlerini paylaşmalarını isteyi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nra Adım 2’deki etkinlikleri yapmalarını isteyin. Okul Kültüründe Değişim sunusunun CD’nin Forum Araçları seçeneği altında yer aldığını vurgulay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2632-39B1-495D-A60D-02FF56CC915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blonun anlaşılmayan yönlerini açıklay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4859-5B88-4A18-B4DF-4033659344B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nlar üzerinde durduktan sonra katılımcıların sonraki slaytlarda yer alan soruları cevaplamalarını sağlayın. Sınıf için anket niteliğinde yapabilir ya da ellerine dağıtarak doldurmalarını isteye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3CAD-85CD-47F9-81D9-88ACD8EF5BA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D083-DE7D-4CA3-BB8F-108E3537B5D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8BE5-9CCF-40A3-99BE-B1FCEDC8FAA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35C7-3638-4AC6-800B-A873513B3E5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A7AF-121F-485A-B697-1806FC46886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16E0-D497-4A14-AE79-6E612E51D70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BC2F-BC83-4E59-A203-0E2103303FB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4610-8FAC-4494-90BD-A336130C4B4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şlangıç modülündeki ilk etkinlikte yer alan açıklamaları okuyarak soruların cevaplarını aramalarını istey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ir kaç katılımcıya söz hakkı verdikten sonra bir sonraki slayta geç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CF2B-0113-4AE6-B0F6-70ED1DC97F0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FF44-844E-477F-A56F-75D7A51AC27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CE5E-CD40-4B5F-822C-00ED3282F77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derlerin/Yöneticilerin teknoloji kullanımı konusunda kendilerini rahat hissetmeleri ve günlük işlerinde kullanmaları öğretmenler üzerinde nasıl bir etki oluşturu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Bu tür bir soru sorarak katılımcıların fikirlerini alı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5ABC-71B0-4876-8F61-A95CC09DE03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Öğrenme-öğretme süreçlerinde teknolojiden daha fazla yararlanmayı sağlamak, hangi yönetici işlevlerinden/konulardan önce hangilerinden sonra konumlandırılmalıdır? Öncelikler ne olmalıdır? Teknolojinin yaygınlaştırılması bu öncelik listesinde nerede yer almalıdı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Katılımcıların bu sorular ailişkin fikirlerini ala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0461-B795-461F-96F6-72701F51502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ir yönetici A’dan B’ye, B’den C’ye ve C’den D’ye nasıl ilerleyebilir? Neler yapması gereki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atılımcılara söz hakkı vere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32C7-1ED7-4811-A07C-60FCDBA38CF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Katılımcıların okumadan önce yukarıdaki soruları tartışmalarını sağlayınız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Sonra okumalarını sağlayını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Değerlendirme sonuçları konusunda görüşlerini alını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4105-640E-4587-994B-2D6573694FF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F9AC-8CD8-49BC-A4DE-3734243E2F8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B3B3-C1E0-4A88-BC3A-65E4E379F4A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tılımcıların CD’yi incelemelerine fırsat verin. CD de yer almasını düşündükleri ya da meslektaşlarıyla paylaşmak istedikleri başka kaynaklar varsa. Size ulaştırmalarını sağlayı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D96E-2D04-4051-8261-B0DC176B3E1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’s the Genel Bakış for our exploration time. We’ve supplied you with all the Web addresses we use in the forum, plus a lot of other resources, on a CD. Locate your Resource CD in the back of your manual, and let’s follow the directions for this Etkinlik, beginning on Modül 2.05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ve participants insert the CD and direct them to work from 2.05 in their manual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ocalization suggestion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e length of this Etkinlik depends on the agenda you have selected for the forum. If you are using a longer agenda, extend the length of this exploration time so participants can explore all that is available at the Intel® Education Web site, as well as other resources you have selected that showcase best practices. If you are working with a shorter agenda (i.e. 4 hours), follow the recommended agenda for exploration time.]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Go to the next sl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9A90-72D3-4193-B65E-A34100EFCAD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tılımcıların okumasına izin verin. Burada FORUM kavramı, paylaşımın önemi ve uygulama topluluklarının önemini vurgulayı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5B92-53DB-4014-B9D6-B8EEC93D911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’ll come back to these Sorus after you do some looking around.  You’ll have a chance to work with a partner, but know that we’re aiming at the last Soru in particular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. Provide time for exploration and additional time for participants to take a break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. After the exploration and break time, call the group back together (from their individual work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. Ask participants to consider these Sorus and discuss with a partner (or set up small groups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. After the pair or small group discussions, conduct a large group discussion. Remember to focus particularly on the third Sor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ocalization suggestion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e length of this discussion depends on the agenda you have selected for the forum. If you are using a longer agenda, extend the length of this discussion time so participants can discuss all Sorus together and have a large group discussion. If you are working with a shorter agenda (i.e. 4 hours), keep this discussion time shorter (around 15-20 minutes).]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CDAE-8087-4F5B-81DF-4A3644AC007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7C6D-B149-4E1F-9CC9-6E43E0A5910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Bu etkinlikte Web 2.0 ve Web 1.0 arasındaki farka odaklanılmalı ve kolay kullanım sağladığı üzerinde durulmalıdır. Bu arada Web 3.0 ve Web 4.0 üzerinde çalışıldığı ifade edilmelidi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92B2-A79F-49D0-AE06-F6449906ACD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Bu etkinlikte Web 2.0 ve Web 1.0 arasındaki farka odaklanılmalı ve kolay kullanım sağladığı üzerinde durulmalıdır. Bu arada Web 3.0 ve Web 4.0 üzerinde çalışıldığı ifade edilmelidi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DCB1-43F3-4211-9B5B-37143F1A829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B264-9F8F-4F8E-9043-8B9E82DF9D9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E54E-385D-41F7-AFC4-6F5C53F0188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rada Görsel sıralama aracının nasıl çalıştığını çevrimiçi ortamda göster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56AE-B7F7-4774-A47A-D313FA93170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akım halinede çalışmalarını sağlayı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5733-30C5-4AE0-A90F-0A268ACBD93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Eğitici lider sunu öncesinde buraya adınızı yazmalı, takım kodları ve şifreleri oluşturmalısınız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AC55-9E7A-4601-8EB6-D9DC1AE30F7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Farklı grupların çalışmaları karşılaştıklarında neler bulduklarını aktarmalarına izin verin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Takımların sıralamalarda ortaya çıkan farklılıkların nedenlerini tartışmalarına izin verin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Son olarak görsel sıralama aracına ilişkin katılımcıların görüşlerini alın. Yararlı buluyorlar mı? Yönetim ya da öğretim süreçlerinde  kullanmak isterler mi? Kullanabilirler mi? Ne tür etkinlikler yaptırabilirler?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5A03-EA26-4A5B-877E-1A436336BB1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tılımcıların birer kağıt alarak beklentilerini yazmalarını isteyin. Sonra bunları toplayarak biraraya getirin. Bu listeyi Forum sonunda kullanmak üzere saklayın. 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C698-464A-4BD9-9CEC-E09D933A3FE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üyük grupla bu sıralamayı tartışın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14B7-F6E8-49B2-83FD-B7496220197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Gerekirse web sitelerini incelemelerini sağlayın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3873-4046-4863-A9D0-7C965B641F9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Altı alanda sınıflandırıldığını vurgulayın. CD’den Görsel Sırlamayı açarak katılımcıların ayrıntılı incelemelerini sağlayın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EE41-28D0-4AFE-A384-8D334249E42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A533-6194-4430-9C7B-3E277400F24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atılımcılara sorarak geribildirim alın. Yanlış anlaşılmaları belirleyebilir ve gidermek için zaman ayıra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FA18-CA8D-435A-AF3C-4B844BCF5B3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5844-BF2B-4E02-AC2E-0B42249592F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 now turn to your opportunity to start building your own action plan. These are the Sorus that drive Modül 4 and are on the Modül 4 Genel Bakış page. Note the objectives there which interact with the Soru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Go to the next sl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24C2-49FC-4527-AC84-224E649B7CF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10BB-2DBB-4950-A259-E8796F420AF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Birlikte inceleyin. İsterlerse eklerdeki örnekleri ayrıntılı incelemelerini isteyiniz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CE33-B4FD-44DF-8ED3-80A3FB66743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39A6-8405-4F14-8600-3EB3B4698F5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tılımcıların okumasına izin verin. Siz okumadan özetlemeye çalışın. Eylem Planlarını bitiremeyebileceklerini ancak başlamalarının önemli olduğunu vurgulay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 slaytta ayrıca, Türkiye’deki değerlendirme çalışmalarında özellikle Okul Müdürü ve İl Yöneticilerinin teknolojiye olan tanışıklık ve ilgilerinin öğretmen eğitimleri üzerindeki etkisinden sözede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D1CF-FB5B-49E1-A68E-7143FCC5EAF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Katılımcıların eylem planlarını bir başka katılımcıyla eşleşerek paylaşmalarını ve yukarıdaki soruların cevaplarını birlikte araştırmalarını sağlay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Bazı eşleş paylaş gruplarına söz vererek tüm grupla soruların cevaplarını paylaşmalarını sağlay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B546-AE69-42FE-A9BA-1028C7059D1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19B3-DEFD-45CF-94E9-5ED8346DD08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B4EA-36CC-4243-A096-A5FA1346E9C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Üm katılımcıların çevrimiçi anketi doldurmasını sağlayın. Bu anketin yalnızca Forumu değerlendirmek için olduğunu daha sonra etki analizi yapılacağını belirti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Bu arada forumun ilk etkinliklerinde katılımcıların belirttikleri beklentilere geri dönerek ne ölçüde karşılandığını tartışa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8059-A172-43FA-A1E1-29251257FBE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8B75-2274-4752-B965-46CCE2D7B17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0DAF-56BE-440F-92AD-6F981FB0219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tılımcıların kendilerini tanıtmalarına imkan verin ve notlar al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B301-9354-4DBA-AC3D-E0FFEF9D726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Bu slaytta standart alanlarını daha sonra ayrıntılı inceleyeceğinizi ve planların kısa, orta ve uzun vadeli olması gerektiğini belirtin. Kitaptaki açıklamaları açımlamaya çalışı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797F-D07F-4BC5-8961-BED000A5AEC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Günlük Forum planını bu arada aktarta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4BA38-D8B6-4155-A91A-28EA32EF6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46574-B606-4427-8A86-69DE78343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1A4CB-D9B2-4938-BC01-08E69CD5FA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FDAB0-5A7B-4E4F-8830-349E93B35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794E5-5E19-4CCD-B95F-CD201A0A6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F6FF2-0545-4A7B-96E5-132F72F3A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3B785-0DF6-4980-BA86-F6F7610FD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BD4B-DF89-47AF-BD27-754528F97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C10D7-D16D-4D7A-8425-458BE8E68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F88D5-4C79-4A16-92D3-5F0F2D1ED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71996-6A41-4FC8-B6C7-C85EBE4E1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DF934-148F-4557-A3CC-8CB80D16A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9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F134-6A5A-4674-8D1F-868D9ED99A43}" type="slidenum">
              <a:rPr b="1" lang="en-US" sz="800" spc="-1" strike="noStrike">
                <a:solidFill>
                  <a:srgbClr val="00009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28"/>
          <p:cNvSpPr/>
          <p:nvPr/>
        </p:nvSpPr>
        <p:spPr>
          <a:xfrm>
            <a:off x="1079640" y="6108840"/>
            <a:ext cx="4711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Picture 8" descr="intel.tiff"/>
          <p:cNvPicPr/>
          <p:nvPr/>
        </p:nvPicPr>
        <p:blipFill>
          <a:blip r:embed="rId2"/>
          <a:stretch/>
        </p:blipFill>
        <p:spPr>
          <a:xfrm>
            <a:off x="8102520" y="6076800"/>
            <a:ext cx="1041480" cy="7621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MEB.tiff"/>
          <p:cNvPicPr/>
          <p:nvPr/>
        </p:nvPicPr>
        <p:blipFill>
          <a:blip r:embed="rId3"/>
          <a:stretch/>
        </p:blipFill>
        <p:spPr>
          <a:xfrm>
            <a:off x="7311960" y="6058080"/>
            <a:ext cx="787320" cy="79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3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5e647"/>
                </a:solidFill>
                <a:latin typeface="Verdana"/>
              </a:rPr>
              <a:t>© 2006 Intel Corporation. All rights reserved. Intel and the Intel logo are trademarks or registered trademarks of Intel Corporation 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5e647"/>
                </a:solidFill>
                <a:latin typeface="Verdana"/>
              </a:rPr>
              <a:t>or its subsidiaries in the United States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Picture 11" descr="Kitap Banner.jpg"/>
          <p:cNvPicPr/>
          <p:nvPr/>
        </p:nvPicPr>
        <p:blipFill>
          <a:blip r:embed="rId2"/>
          <a:stretch/>
        </p:blipFill>
        <p:spPr>
          <a:xfrm>
            <a:off x="519120" y="1992240"/>
            <a:ext cx="8317080" cy="2683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5e647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5e64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5e647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5e647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5e647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5e647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5e647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5e647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educate.intel.com/tr/thinkingtools/visualranki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www.hmh-degerlendirme.com/intel/foru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935240"/>
            <a:ext cx="8766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99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262699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262699"/>
                </a:solidFill>
                <a:latin typeface="Verdana"/>
              </a:rPr>
              <a:t> </a:t>
            </a:r>
            <a:r>
              <a:rPr b="1" lang="tr-TR" sz="3600" spc="-1" strike="noStrike">
                <a:solidFill>
                  <a:srgbClr val="262699"/>
                </a:solidFill>
                <a:latin typeface="Verdana"/>
              </a:rPr>
              <a:t>Öğretmen</a:t>
            </a:r>
            <a:r>
              <a:rPr b="1" lang="en-US" sz="3600" spc="-1" strike="noStrike">
                <a:solidFill>
                  <a:srgbClr val="262699"/>
                </a:solidFill>
                <a:latin typeface="Verdana"/>
              </a:rPr>
              <a:t> Program</a:t>
            </a:r>
            <a:r>
              <a:rPr b="1" lang="tr-TR" sz="3600" spc="-1" strike="noStrike">
                <a:solidFill>
                  <a:srgbClr val="262699"/>
                </a:solidFill>
                <a:latin typeface="Verdana"/>
              </a:rPr>
              <a:t>ı</a:t>
            </a:r>
            <a:endParaRPr b="1" lang="en-US" sz="3600" spc="-1" strike="noStrike">
              <a:solidFill>
                <a:srgbClr val="f5e64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5601960"/>
            <a:ext cx="876600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262699"/>
                </a:solidFill>
                <a:latin typeface="Verdana"/>
              </a:rPr>
              <a:t>Liderlik</a:t>
            </a:r>
            <a:r>
              <a:rPr b="0" lang="en-US" sz="3600" spc="-1" strike="noStrike">
                <a:solidFill>
                  <a:srgbClr val="262699"/>
                </a:solidFill>
                <a:latin typeface="Verdana"/>
              </a:rPr>
              <a:t> Forum</a:t>
            </a:r>
            <a:r>
              <a:rPr b="0" lang="tr-TR" sz="3600" spc="-1" strike="noStrike">
                <a:solidFill>
                  <a:srgbClr val="262699"/>
                </a:solidFill>
                <a:latin typeface="Verdana"/>
              </a:rPr>
              <a:t>u</a:t>
            </a:r>
            <a:endParaRPr b="0" lang="en-US" sz="3600" spc="-1" strike="noStrike">
              <a:solidFill>
                <a:srgbClr val="f5e647"/>
              </a:solidFill>
              <a:latin typeface="Verdana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6465960"/>
            <a:ext cx="914400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Picture 4" descr="intel.tiff"/>
          <p:cNvPicPr/>
          <p:nvPr/>
        </p:nvPicPr>
        <p:blipFill>
          <a:blip r:embed="rId1"/>
          <a:stretch/>
        </p:blipFill>
        <p:spPr>
          <a:xfrm>
            <a:off x="5005440" y="750960"/>
            <a:ext cx="1041480" cy="761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MEB.tiff"/>
          <p:cNvPicPr/>
          <p:nvPr/>
        </p:nvPicPr>
        <p:blipFill>
          <a:blip r:embed="rId2"/>
          <a:stretch/>
        </p:blipFill>
        <p:spPr>
          <a:xfrm>
            <a:off x="3328920" y="731880"/>
            <a:ext cx="78732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D833-12FB-4259-B499-2EF99226C3C7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1: 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Paradigma Değişimini Fark Etme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radigma, herhangi bir alanda yerleşik yazılı ve yazılı olmayan tüm kurallar ve uygulamal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ünlük yaşamda paradigma değişim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ğitimde paradigma değişim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6C4C-0621-4426-8DA1-DADCA9B66DAF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2: 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Değişimi Yönetme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4" descr="book31.tiff"/>
          <p:cNvPicPr/>
          <p:nvPr/>
        </p:nvPicPr>
        <p:blipFill>
          <a:blip r:embed="rId1"/>
          <a:stretch/>
        </p:blipFill>
        <p:spPr>
          <a:xfrm>
            <a:off x="461880" y="1208160"/>
            <a:ext cx="5759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FD22-3684-48EB-8A90-4D9DAE4CCD6B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2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Varsayımlar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Öğretmenlerin etkililiğini destekleyen liderler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…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a6cae1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Teknolojini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nemli olduğuna ve öğrenme ve öğretmede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fark yarattığına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nı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ve öğretmenleri destekleme konularında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isteklidir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unun öğrenciler için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yapılacak doğru şey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lduğuna inanı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635A-19B4-4AFD-8711-C6F107355465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1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Şimdiki görevim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Müdü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Müdür Yardımcıs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l Milli Eğitim Müdür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l Milli Eğitim Müdür Yardımcıs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Müfredat Yöneticis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Koordinatör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Diğ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AAA7-0E35-4E1A-AA57-C2A5C8E47CFB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2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Liderlikteki deneyimim (kaç yıllık lider olduğum)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-5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ıl aras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6-10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ıl aras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1-15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ıl aras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6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a da daha fazla yı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04BE-FAF3-4457-AB1D-C63D138ECDE7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3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Hangisi görev yaptığım kademeyi en iyi açıklar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lköğretim 1. Kade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lköğretim 2. Kade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rtaöğret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l Müdürlüğ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den fazla kade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4E81-4A69-44C0-95E3-DFA75BD5C807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4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Vazgeçemeyeceğim takvim: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ğıttı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le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tronikti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5D23-174C-4499-97FD-3C25E602A37D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5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e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ktronik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iletişim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(e-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posta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trafiğim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Çok az post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önderim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lım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aftada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 e-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posta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ele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ide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er gün en az yarım saat ayırırım, her hafta iki yüzden fazla e-post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-post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ayatımın büyük bölümünü kapsıy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78B1-BCB1-4AE9-99F5-ACB6148098D9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6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Bilgisayarda kelime işlemci programını kullanma amacı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içbirşey iç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kaç kaba taslak yazmak için, ama her hafta değil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afta boyunca düzenli olarak epeyc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ot almak, taslak hazırlamak, takvim oluşturmak ve gündem belirlemek vb. için her gü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7966-14F9-4B70-965A-02E171D148F9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7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lektronik sunular ile ilişki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alnızca izler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kaç tane yapmayı denedim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10’dan az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10’dan fazlası için yardım ettim ya da yardım aldı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nları kullanmadan önce nasıl çalışıyormuşum hatırlamıyorum b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F473-14B7-4D5A-9889-3F2ABD59C44D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Başlarken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Forumu Tanıma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mel Sor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ğitim liderleri, öğrencilerin başarılarını arttırmak amacıyla, öğretmenlerin daha etkili öğretim süreçleri yürütmelerine nasıl yardımcı olabilirler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Sorul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 Programı Liderlik Forumu’nun temel amacı nedir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Forum sonunda neler kazanmış olacaksınız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F29C-EE6F-4B00-9236-B9B060080463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8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Bir avuç içi bilgisayarı/aracı kullanma sıklığı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adir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ra sır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er gü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er anı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F918-0026-4EBF-A355-F0FAD989BF72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9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Bir Web 2.0 aracını (Web Günlüğü, Wiki, Facebook vb.)  kullanma sıklığı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adir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ra sır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er gü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er anı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64CC-E089-483C-8923-280998462F42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10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Teknoloji kullanımında kişisel üretkenliğimi ve etkililiğimi geliştirmek için yeterlik düzeyi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etersiz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ğıdım kalemim nered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az yeterl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yi severim ama öğrenmeye zamanım yo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eterl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bana yardımcı olur ve teknolojileri, nasıl kullanabileceğimi tanımaktan memnunluk duyarım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eterli ötes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eni çıkacak teknoloji ürünlerini beklerken sabırsızlanıyorum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388F-08A5-4D2F-BAF0-C77412E281F3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11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Öğretim süreçleri için sınıfta teknoloji kullanımıyla ilgili bilgi düzeyim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Çok az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asıl bir şey olduğundan pek emin değil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rt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anırım gördüğümde ne olduğunu anlayabilirim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y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e aradığımı iyi bilir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Uzman düzey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lerime öğretim süreçlerinde teknolojiyi kullanma konusunda eğitim verebilir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1DD6-2EBF-4A89-982C-03FE3743664F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12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Öğretmenlerime sınıfta günlük derslerinde teknoloji kullanımlarına yardımcı olmadaki yeterlik düzeyim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Çok düşü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ınıflarda teknolojiyle ilgili olarak nelerin işe yarayacağından pek emin değilim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Düzeliyo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kaç şeyi biliyorum ve birşeyler öğreniyorum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endinden emi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ile öğretim konusunda iyi durumdayım ama halihazırda buna ilişkin bir planım yo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iderek gelişmekt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 planım var ve çalışarak plan üzerinde ilerliyoru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C801-55F1-498B-AFAA-491ED2F3428B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3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Intel</a:t>
            </a:r>
            <a:r>
              <a:rPr b="1" lang="en-US" sz="2600" spc="-1" strike="noStrike" baseline="30000">
                <a:solidFill>
                  <a:srgbClr val="a6cae1"/>
                </a:solidFill>
                <a:latin typeface="Verdana"/>
              </a:rPr>
              <a:t>®</a:t>
            </a: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 </a:t>
            </a: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Öğretmen Programını Anla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Neden Intel eğitime yatırım yapmaktadır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800" spc="-1" strike="noStrike" baseline="30000">
                <a:solidFill>
                  <a:srgbClr val="a6cae1"/>
                </a:solidFill>
                <a:latin typeface="Verdana"/>
              </a:rPr>
              <a:t>®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 Ö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ğ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retmen Programını nasıl buluyorsunuz? Neden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88B5-B52D-4F3A-82E3-8FA070A3FC9C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74840" y="29196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3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Intel</a:t>
            </a:r>
            <a:r>
              <a:rPr b="1" lang="en-US" sz="2600" spc="-1" strike="noStrike" baseline="30000">
                <a:solidFill>
                  <a:srgbClr val="a6cae1"/>
                </a:solidFill>
                <a:latin typeface="Verdana"/>
              </a:rPr>
              <a:t>®</a:t>
            </a: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 </a:t>
            </a: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Öğretmen Programını Anla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2000 yılında piyasaya sürülmüş dünya çapında yaygın bir programdı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35 ülkede 3 milyondan fazla öğretmen bu programla eğitimden geçmişti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Program, öğrenci başarısını desteklemek için öğretmen etkinliğini geliştirme ve bu süreçte teknoloji araçlarının kullanımı konularının ötesine geç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A733-3CB2-4BE3-B467-100C6E938A56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3</a:t>
            </a:r>
            <a:br>
              <a:rPr sz="2600"/>
            </a:br>
            <a:r>
              <a:rPr b="1" lang="en-US" sz="2200" spc="-1" strike="noStrike">
                <a:solidFill>
                  <a:srgbClr val="a6cae1"/>
                </a:solidFill>
                <a:latin typeface="Verdana"/>
              </a:rPr>
              <a:t>Intel</a:t>
            </a:r>
            <a:r>
              <a:rPr b="1" lang="en-US" sz="2200" spc="-1" strike="noStrike" baseline="30000">
                <a:solidFill>
                  <a:srgbClr val="a6cae1"/>
                </a:solidFill>
                <a:latin typeface="Verdana"/>
              </a:rPr>
              <a:t>®</a:t>
            </a:r>
            <a:r>
              <a:rPr b="1" lang="en-US" sz="2200" spc="-1" strike="noStrike">
                <a:solidFill>
                  <a:srgbClr val="a6cae1"/>
                </a:solidFill>
                <a:latin typeface="Verdana"/>
              </a:rPr>
              <a:t> </a:t>
            </a: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Öğretmen</a:t>
            </a:r>
            <a:r>
              <a:rPr b="1" lang="en-US" sz="2200" spc="-1" strike="noStrike">
                <a:solidFill>
                  <a:srgbClr val="a6cae1"/>
                </a:solidFill>
                <a:latin typeface="Verdana"/>
              </a:rPr>
              <a:t> Program</a:t>
            </a: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ı için Temel Değerlendirme Bulguları </a:t>
            </a:r>
            <a:r>
              <a:rPr b="1" lang="en-US" sz="2200" spc="-1" strike="noStrike">
                <a:solidFill>
                  <a:srgbClr val="a6cae1"/>
                </a:solidFill>
                <a:latin typeface="Verdana"/>
              </a:rPr>
              <a:t>**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önetsel destek önemlidir ama çeşitlilik gösterir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Destek çoğunlukla şunlarla sınırlıdı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e</a:t>
            </a: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knik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kaynakla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Teknik destek personel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C650-6EB0-4041-BBA4-A847A0E3084B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dül 1 | Etkinlik 4</a:t>
            </a:r>
            <a:br>
              <a:rPr sz="2400"/>
            </a:br>
            <a:r>
              <a:rPr b="1" lang="tr-TR" sz="2400" spc="-1" strike="noStrike">
                <a:solidFill>
                  <a:srgbClr val="a6cae1"/>
                </a:solidFill>
                <a:latin typeface="Verdana"/>
              </a:rPr>
              <a:t>Kaynakları Gözden Geçirmek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yna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D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yi yerleştiri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a6cae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Buradan Başlayı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a tıklayın ve sonra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CD’yi Başlatı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a tıklayı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CD içinde yer alan kaynakları inceleyiniz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ynal CD için önerebileceğiniz kaynaklar varsa bunları not alıp Eğitici Liderinize ulaştırı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0D73-1114-4E63-B324-DF3959941C25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5760" y="2001960"/>
            <a:ext cx="823752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yna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D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yi yerleştiri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a6cae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Buradan Başlayı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a tıklayın ve sonra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CD’yi Başlatı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a tıklayı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ol bölmedeki </a:t>
            </a:r>
            <a:r>
              <a:rPr b="1" lang="en-US" sz="1800" spc="-1" strike="noStrike">
                <a:solidFill>
                  <a:srgbClr val="a6cae1"/>
                </a:solidFill>
                <a:latin typeface="Verdana"/>
              </a:rPr>
              <a:t>Forum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Araçlarını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ve sonra da </a:t>
            </a:r>
            <a:r>
              <a:rPr b="1" lang="en-US" sz="1800" spc="-1" strike="noStrike">
                <a:solidFill>
                  <a:srgbClr val="a6cae1"/>
                </a:solidFill>
                <a:latin typeface="Verdana"/>
              </a:rPr>
              <a:t>Forum Web Sites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ini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ıklayı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Bağlantılar üzerine tıklayarak kaynaklara ulaşı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eb siteler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nin içinde dolaşarak ve kitabınızdaki yönergeleri takip ederek kaynakları keşfetmeye çalışın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ül 1 | Etkinlik 5</a:t>
            </a:r>
            <a:br>
              <a:rPr sz="28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Teknoloji Kullanımına Yönelik Web Kaynaklarını Saptamak</a:t>
            </a:r>
            <a:br>
              <a:rPr sz="24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DCAA-8133-41F8-A82C-CDF6CF4AE4A8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26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®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Öğretmen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Programı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Liderlik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Forum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u,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teknolojinin öğretim ve yönetim süreçlerinde bir araç olarak etkili kullanımını teşvik etmek, desteklemek ve model olmak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konularında size yardımcı olmak amacıyla oluşturulmuştur.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Başlarken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|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tkinlik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1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Temel Amaç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86EA-7FE6-42AB-961D-6F0F7CBE6F82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dül 1 | Etkinlik 5</a:t>
            </a:r>
            <a:br>
              <a:rPr sz="2400"/>
            </a:br>
            <a:r>
              <a:rPr b="1" lang="en-US" sz="2400" spc="-1" strike="noStrike">
                <a:solidFill>
                  <a:srgbClr val="a6cae1"/>
                </a:solidFill>
                <a:latin typeface="Verdana"/>
              </a:rPr>
              <a:t>Teknoloji Kullanımına Yönelik Web Kaynaklarını Saptamak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760" y="2136600"/>
            <a:ext cx="8237520" cy="35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angi kaynakları yararlı buldunuz? Neden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angi ünite planları ilginizi çekti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lere teknoloji kullanımı konusunda yardımcı olurken bu kaynaklar nasıl bir yarar sağlar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AD9D-85B1-4977-9AB2-19D02F70AE01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2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Web 2.0 Araçlarını Keşfetme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Modül Soruları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Web 2.0 teknolojilerini, okulumun ya da ilimin/ilçemin teknoloji planları içine nasıl entegre edebilirim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ler ve öğrenciler küresel topluluklarla iletişim kurabilmek, öğrenme- öğretme süreçlerini geliştirebilmek için hangi araçları kullanabilirler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Web 2.0 araçları öğretmenlerle, ailelerle, öğrencilerle ve toplum üyeleriyle gerçekleştirilen günlük iletişime nasıl bir katkı sağlar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77AF-FAEA-46C2-A14D-AD8E8E066C1E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ül 2 | Etkinlik 1</a:t>
            </a:r>
            <a:br>
              <a:rPr sz="2800"/>
            </a:br>
            <a:r>
              <a:rPr b="1" lang="en-US" sz="2800" spc="-1" strike="noStrike">
                <a:solidFill>
                  <a:srgbClr val="a6cae1"/>
                </a:solidFill>
                <a:latin typeface="Verdana"/>
              </a:rPr>
              <a:t>Web 2.0 Araçlarını Anlamak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kulunuzda ya da ilinizde/ilçenizde Web 2.0 araçlarını kullanıyor musunuz? Nası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951A-BBD3-44A0-A9F2-F1EB98902CF8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ül 2 | Etkinlik 3</a:t>
            </a:r>
            <a:br>
              <a:rPr sz="2800"/>
            </a:br>
            <a:r>
              <a:rPr b="1" lang="en-US" sz="2800" spc="-1" strike="noStrike">
                <a:solidFill>
                  <a:srgbClr val="a6cae1"/>
                </a:solidFill>
                <a:latin typeface="Verdana"/>
              </a:rPr>
              <a:t>Web 2.0 Araçları Belirlemek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nternette araştırma yaparak farklı Web 2.0 araçlarını (Yack Pack, You TUBE, Delicious, vb.) ve örneklerini (Blogcu, Wikispaces, Google sites, vb.) katılımcılarla paylaşınız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A431-8B34-4E88-9F76-6680E994764C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</a:t>
            </a:r>
            <a:br>
              <a:rPr sz="2200"/>
            </a:b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Liderlik Davranış ve Standartlarını İncelemek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Sınıfta teknoloji kullanımının nasıl olduğunu görmemiz için bir fırsat olarak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, Modül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3 bizi etkili teknoloji kullanımını destekleyecek belirli liderlik davranışlarına götürecektir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D97F-C728-4318-AB65-5BBE9E185DA0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Liderlik Davranış ve Standartlarının İncelenmes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Soruları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Öğretim sürecinde teknoloji kullanımını desteklemek için hangi üç liderlik davranışının temel rol oynadığına inanıyorsunuz?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Yöneticilere yönelik hangi ulusal standartlar bulunmaktadır ve öğretim sürecinde teknolojinin etkili kullanımını desteklemek için hangi temel koşullar gereklidir?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AAE8-E8BF-4D61-8F89-CB7A48D7EDD1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2 </a:t>
            </a:r>
            <a:br>
              <a:rPr sz="2200"/>
            </a:b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Görsel Sıralama Aracını Tanımak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Görsel Sıralama Aracı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br>
              <a:rPr sz="1800"/>
            </a:b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http://educate.intel.com/tr/thinkingtools/visualranking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ıralama için ve listelerdeki maddelerin karşılaştırılması için ücretsiz çevrimiçi kayna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lerin ve öğrencilerin üzerinde çalışabilecekleri serbest bir ala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2"/>
          <a:srcRect l="1275" t="25252" r="39370" b="40698"/>
          <a:stretch/>
        </p:blipFill>
        <p:spPr>
          <a:xfrm>
            <a:off x="3532320" y="4349880"/>
            <a:ext cx="545760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322D-FDCC-4634-AD13-C07435D08BFD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1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Görsel Sıralama Aracını Tanımak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tkili teknoloji kullanımını desteklemede liderlik davranışlarını sıralamak ve karşılaştırmak için </a:t>
            </a: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Görsel Sıralama Aracını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ullanı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endi önem sıranıza göre davranışları sıralayı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052C-82A0-4250-8BF4-EA91392DDA5D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2</a:t>
            </a:r>
            <a:r>
              <a:rPr b="1" lang="tr-TR" sz="2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200"/>
            </a:b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Sisteme Giriş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dı: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Eğitici Lider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Öğretmen Adını buraya giri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akım Adı: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Kullanıcı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xx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xx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1’den 20’ye kadar size atanmış numaradı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Şifr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Kullanıcı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xx</a:t>
            </a: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akım Adıyla aynı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onraki etkinliklerde hatırlayabilmeniz için Sisteme Giriş Bilgileri bölümüne bunları yazı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6714-6BA2-4F89-8803-75A55BE92F39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</a:t>
            </a:r>
            <a:r>
              <a:rPr b="1" lang="tr-TR" sz="2200" spc="-1" strike="noStrike">
                <a:solidFill>
                  <a:srgbClr val="ffffff"/>
                </a:solidFill>
                <a:latin typeface="Verdana"/>
              </a:rPr>
              <a:t>2</a:t>
            </a:r>
            <a:br>
              <a:rPr sz="2200"/>
            </a:b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-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Davranışları Sınıflandırmak ve Sıralamak </a:t>
            </a:r>
            <a:br>
              <a:rPr sz="2000"/>
            </a:b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-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Sıralamaları Karşılaştırmak ve Tartışmak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isteme giri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unu zaten yapmıştınız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ınıflandırın ve sıralayı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rşılaştırın ve tartışı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ydedin ve sistemden çıkı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CAB2-AC87-4A38-8BCA-F9F15FFEC31A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Sizin hedef(ler)iniz nedir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Neler bekliyorsunuz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Başlarken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|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tkinlik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1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Kazanımlar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D13D-377B-49CC-98C2-0221F2EB8606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Lider Davranışlarının Sıralanması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n Önemlileri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Vizyonun paylaşımı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I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raştırmayı temel alm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I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ortamının desteklenmesi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IIb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itelikli teknoloji kullanımı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II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kullanımında model olm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III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ynakların dağıtımı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IVc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Personelin değerlendirilmes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Vc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şit erişim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VI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izlili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üvenli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VIc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C55D-5606-4F89-AA58-C85E743D8A81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3 | Etkinlik 3</a:t>
            </a:r>
            <a:br>
              <a:rPr sz="2600"/>
            </a:br>
            <a:r>
              <a:rPr b="1" lang="tr-TR" sz="2400" spc="-1" strike="noStrike">
                <a:solidFill>
                  <a:srgbClr val="a6cae1"/>
                </a:solidFill>
                <a:latin typeface="Verdana"/>
              </a:rPr>
              <a:t>Yöneticiler için Standartları Anlamak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STE –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ğitim Teknolojisi Uluslararası Topluluğu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TS –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Ulusal Eğitim Teknolojisi S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andar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tlar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ETS “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 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Yöneticiler içi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ETS “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 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Öğretmenler içi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ETS “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 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Öğrenciler için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3B44-EDB4-40FB-9ED7-2890BE29E8AF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3</a:t>
            </a:r>
            <a:br>
              <a:rPr sz="2200"/>
            </a:b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ISTE NETS-A Standar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tlarını İncelemek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28480" y="1084320"/>
          <a:ext cx="4043520" cy="4343400"/>
        </p:xfrm>
        <a:graphic>
          <a:graphicData uri="http://schemas.openxmlformats.org/drawingml/2006/table">
            <a:tbl>
              <a:tblPr/>
              <a:tblGrid>
                <a:gridCol w="4043520"/>
              </a:tblGrid>
              <a:tr h="59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Liderlik ve Vizy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nm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t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rimlil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Mesleki Uygulamalar/Üstlenilen Görevler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89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ste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Yönetim 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İşlemlik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ğerlendir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Sosy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Yas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Et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Konul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547F-A089-4596-ADAB-EC80579C5686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4:</a:t>
            </a:r>
            <a:br>
              <a:rPr sz="2200"/>
            </a:br>
            <a:r>
              <a:rPr b="1" lang="en-US" sz="2000" spc="-1" strike="noStrike">
                <a:solidFill>
                  <a:srgbClr val="7eadd0"/>
                </a:solidFill>
                <a:latin typeface="Verdana"/>
              </a:rPr>
              <a:t>Sıralamayı Tekrar Gözden Geçirmek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elirlediğiniz en önemli lider davranışlarını hatırlayı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TS-A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örsel Düzenleyicisinde yer alanlar ile kendi belirlediklerinizi karşılaştırı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rubunuzla/arkadaşınızla yaptığınız karşılaştırma sonuçlarınızı paylaşı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5E3B-94F4-4A4D-91D0-9F2E9B5D7AB3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3 Soru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3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’ün bana en çok yardımcı olduğu konu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Görsel Sıralama Arac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STE NETS-A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örsel Düzenleyicis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likte Konuşma ve Düşün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BEA2-FAA3-447A-A835-ED4620F99C87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Eylem Planınızı Geliştirme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Teknoloji kullanımının nasıl olduğunu ve etkili teknoloji kullanımını destekleyecek liderlik davranışlarının neler olduğunu gördükten sonra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bu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Modül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kişisel eylem planınızı geliştirirken  öğrendiklerinizi uygulamanıza yardımcı olacaktır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CF0D-CA06-480E-9AB3-95A00FA885EC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Kendi Eylem Planınızın Yapılandırılması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Sorus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kulumda ya da ilimde/ilçemde teknolojiden etkili ve verimli biçimde yararlanmak için kişisel olarak neler yapabilirim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ısa, orta ve uzun vadede hangi liderlik davranışlarını sergileyebilirim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48DD-0C43-4AC8-BA85-C6C651877421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4 | Etkinlik 1</a:t>
            </a:r>
            <a:br>
              <a:rPr sz="2200"/>
            </a:b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Eylem Planı Şablonunu İncelemek</a:t>
            </a:r>
            <a:br>
              <a:rPr sz="2200"/>
            </a:br>
            <a:br>
              <a:rPr sz="2200"/>
            </a:b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28640" y="1609560"/>
          <a:ext cx="7964640" cy="4268880"/>
        </p:xfrm>
        <a:graphic>
          <a:graphicData uri="http://schemas.openxmlformats.org/drawingml/2006/table">
            <a:tbl>
              <a:tblPr/>
              <a:tblGrid>
                <a:gridCol w="2701800"/>
                <a:gridCol w="1847880"/>
                <a:gridCol w="1663920"/>
                <a:gridCol w="1751040"/>
              </a:tblGrid>
              <a:tr h="3056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Standar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Kıs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Ort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Uzun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54612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1144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Liderlik ve Vizy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71360" indent="-171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nm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t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rimlil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Üstlenilen Görev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ste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Yönetim 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işlem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ğerlendir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Sosy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Yas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Et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Konul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Rectangle 93"/>
          <p:cNvSpPr/>
          <p:nvPr/>
        </p:nvSpPr>
        <p:spPr>
          <a:xfrm>
            <a:off x="706320" y="492120"/>
            <a:ext cx="823752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Kişisel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ylem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Plan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ı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KİŞİSEL olarak ne yapabilirim?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12C5-74F2-4626-932D-B6E1330196A2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| Etkinlik 1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Eylem Planı Örneğ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43000" y="1217520"/>
          <a:ext cx="8785080" cy="4686480"/>
        </p:xfrm>
        <a:graphic>
          <a:graphicData uri="http://schemas.openxmlformats.org/drawingml/2006/table">
            <a:tbl>
              <a:tblPr/>
              <a:tblGrid>
                <a:gridCol w="2981160"/>
                <a:gridCol w="2038320"/>
                <a:gridCol w="1833480"/>
                <a:gridCol w="1932120"/>
              </a:tblGrid>
              <a:tr h="3056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Standar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Kıs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Ort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Uzun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4888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1144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Liderlik ve Vizy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71360" indent="-171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nm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t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knoloji Komitesi: ISTE NETS-T ile ilgili öğretmenlere soru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rimlil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Üstlenilen Görev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num programının nasıl kullanılacağını öğrenin ve personel toplantılarında kullanı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ste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Yönetim 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İşlemler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ğerlendir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İlköğretim 2. kademe için veri toplayıp analiz edebileceğiniz bir sistem kuru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Sosy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Yas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Et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Konul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5044-243D-4DBC-A8F1-DCB4672A113B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| Etkinlik 1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İşlevsel Plan Oluştur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steklili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maçlılı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erekli kaynakl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ağlantı kurulacak ya da sürece dahil edilecek kişil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Bu konuda düşündüğünüz başka bir şey var mı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87DB-64B9-4683-9AD4-7616DB06B1A4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orum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Hedefler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82280" y="1101240"/>
            <a:ext cx="8240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nme-öğretme süreçlerinde teknolojinin etkili ve verimli biçimde kullanımını özendirmede, desteklemede ve bu konuda model ya da örnek olmada eğitim liderlerinin oynadığı önemli rolü inceleme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Mesleki gelişimi, uygulamaları ve öğrencilerin kalıcı öğrenmesini desteklemek için mevcut kaynakları ve teknoloji araçlarını saptamak, bunlara erişmek ve kullanma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ncilerin daha kalıcı öğrenmesini sağlamak için teknolojiden yararlanmayı teşvik eden belirli liderlik davranışlarının bir listesini oluşturma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STE Temel Koşullarını ve Liderler/Yöneticiler için ISTE Ulusal Eğitim Teknolojisi Standartlarını (NETS-A) inlecemek, analiz etmek ve uygulama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kulunuzda ya da ilinizde/ilçenizde uygulanacak bir Eylem Planı oluşturma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E7A4-99B1-4357-BCFE-567712C109F7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| Etkinlik 2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Eylem Planlarını Paylaş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ylem planınızı uygularken ne tür sorunlarla karşı karşıya kalabilirsiniz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Önemli role sahip paydaşların sürece aktif katılımını nasıl sağlayacaksınız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ınızı uygulamaya yönelik hangi acil eylemleri gerçekleştirmeye çalışırsınız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kulunuzda ya da ilinizde/ilçenizde teknoloji kullanımını yaygınlaştırmak ve geliştirmek için bireysel olarak olarak siz ne yapacaksınız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F5F8-BE43-4713-A621-5787478604E2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Soru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ylem planı için planlama yaparken en fazla aşağıdakilerin hangisinden yardım aldınız?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ylem Planı Şablon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ylem Planı Şablon örnekler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r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ylem Planı fikirler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Ek D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ylem Planına ilişkin eşleş-paylaş etkinliğ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3DB5-EF1D-4A9D-BE35-13AE326713AC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760" y="31104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| Etkinlik 3 </a:t>
            </a:r>
            <a:br>
              <a:rPr sz="2600"/>
            </a:br>
            <a:r>
              <a:rPr b="1" lang="en-US" sz="2600" spc="-1" strike="noStrike">
                <a:solidFill>
                  <a:srgbClr val="7eadd0"/>
                </a:solidFill>
                <a:latin typeface="Verdana"/>
              </a:rPr>
              <a:t>Sonraki Aşamaya Odaklan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8" name="Picture 6" descr="book32.tiff"/>
          <p:cNvPicPr/>
          <p:nvPr/>
        </p:nvPicPr>
        <p:blipFill>
          <a:blip r:embed="rId1"/>
          <a:stretch/>
        </p:blipFill>
        <p:spPr>
          <a:xfrm>
            <a:off x="763560" y="1897200"/>
            <a:ext cx="780588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BB3B-9908-4F66-8EFE-6DE07550E01F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| Etkinlik 4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Forumu Değerlendirme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Çevrimiçi ankete katılın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http://www.hmh-degerlendirme.com/intel/forum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bağlantısına gidi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nketi tamamlamak için ekrandaki yönergeleri takip edin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D8BF-30BF-42E8-9DD7-906BCB1C95EE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Tebrikler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!!!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2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Öğretmen Programına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Liderlik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Forum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u’na katılımınızdan dolayı teşekkür ederiz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Teknoloji kullanımı konusundaki harcadığınız emek, zaman ve yorumlarınız için sizi tebrik ediyoruz!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A068-D30A-4340-8DF3-BA1FB20F048B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Yöneticiler için Ulusal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Eğitim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Teknolojileri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Standar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tlarını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(NETS-A)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 biliyor musunuz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6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ve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6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Hayı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58C0-E69A-4FCA-9AFC-F8B3EBC0A0CB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Başlarken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|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tkinlik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2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Tanış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dını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kulunuzu ya da iliniz/ilçeniz ile ilgili bilgil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örevi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F7BD-CDA5-48F4-9BD8-3FBD5DE2AB60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Başlarken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|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tkinlik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3</a:t>
            </a:r>
            <a:br>
              <a:rPr sz="2600"/>
            </a:b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ylem Planı Şablonuna Bakış</a:t>
            </a:r>
            <a:br>
              <a:rPr sz="2600"/>
            </a:b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Kişisel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ylem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Plan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ı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KİŞİSEL olarak ne yapabilirim?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11120" y="1582560"/>
          <a:ext cx="8205840" cy="4327560"/>
        </p:xfrm>
        <a:graphic>
          <a:graphicData uri="http://schemas.openxmlformats.org/drawingml/2006/table">
            <a:tbl>
              <a:tblPr/>
              <a:tblGrid>
                <a:gridCol w="2782800"/>
                <a:gridCol w="1905120"/>
                <a:gridCol w="1714680"/>
                <a:gridCol w="1803240"/>
              </a:tblGrid>
              <a:tr h="3056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Standar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t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 Alan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Kıs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Ort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Uzun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54612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1144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Liderlik ve Vizy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71360" indent="-171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nm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t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rimlil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Mesleki Uygulamalar/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Üstlenilen Görevler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ste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Yönetim 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İşlem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ğerlendir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Sosy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Yas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Et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Konul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23C6-5DC9-415B-BCE5-70D324C62426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orum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Gündem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aşlarken |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Forumun Tanıtım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1 |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yi Uygulama ve Kaynakları İncelem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2 |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Web 2.0 Teknolojilerini Keşfetm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3 |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Liderlik Davranış ve Standartlarını İncelem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4 |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ylem Planını Geliştirm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Kapanış |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Değerlendir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08:57:28Z</dcterms:created>
  <dc:creator>Intel® Teach Program</dc:creator>
  <dc:description/>
  <dc:language>en-US</dc:language>
  <cp:lastModifiedBy>Cengiz Hakan AYDIN</cp:lastModifiedBy>
  <dcterms:modified xsi:type="dcterms:W3CDTF">2009-05-02T12:42:48Z</dcterms:modified>
  <cp:revision>142</cp:revision>
  <dc:subject/>
  <dc:title>Forum Presentation</dc:title>
</cp:coreProperties>
</file>